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C6A-55B4-40E0-A4A9-523DB80C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87D-303D-426F-AEA5-A5C448FB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D8E-4C1B-420A-92F2-E7EF0C9F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52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200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128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52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973240"/>
            <a:ext cx="25999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D7E-3C41-4DEF-A2BE-8C923287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F89-5F08-4D6D-8AC2-E89BCC3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096-433E-48D8-AD50-0C494EBF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453-0526-423B-9308-B52EAB03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402-8F2F-4954-84D7-E98EBF9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1280" y="206280"/>
            <a:ext cx="8075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553-AD9E-4914-94A8-EA75242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55E-3C83-42A7-A1AE-E2A449E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120" y="2973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1C4-2432-4FD9-AE48-A645DF9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128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120" y="1200240"/>
            <a:ext cx="39405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1280" y="2973240"/>
            <a:ext cx="80755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3A3-E1CD-4AAD-81F1-49B5BCD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206280"/>
            <a:ext cx="80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200240"/>
            <a:ext cx="80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476676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4E82-9620-4A47-982D-0F5195BC2812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1116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7D3A-4642-4C35-A436-3E868E0C9F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B9C-8407-4087-B45C-86F6103B911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5" descr=""/>
          <p:cNvPicPr/>
          <p:nvPr/>
        </p:nvPicPr>
        <p:blipFill>
          <a:blip r:embed="rId1"/>
          <a:stretch/>
        </p:blipFill>
        <p:spPr>
          <a:xfrm>
            <a:off x="7075440" y="0"/>
            <a:ext cx="2068560" cy="901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143080" y="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ТОРЕПОРТАЖ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 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7" descr=""/>
          <p:cNvPicPr/>
          <p:nvPr/>
        </p:nvPicPr>
        <p:blipFill>
          <a:blip r:embed="rId2"/>
          <a:stretch/>
        </p:blipFill>
        <p:spPr>
          <a:xfrm>
            <a:off x="669960" y="237960"/>
            <a:ext cx="268920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8" descr="C:\Users\Лилия Фаргатовна\Desktop\IMG-20210217-WA0036.jpg"/>
          <p:cNvPicPr/>
          <p:nvPr/>
        </p:nvPicPr>
        <p:blipFill>
          <a:blip r:embed="rId3"/>
          <a:stretch/>
        </p:blipFill>
        <p:spPr>
          <a:xfrm>
            <a:off x="2962440" y="450720"/>
            <a:ext cx="2792160" cy="195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8" descr=""/>
          <p:cNvPicPr/>
          <p:nvPr/>
        </p:nvPicPr>
        <p:blipFill>
          <a:blip r:embed="rId4"/>
          <a:stretch/>
        </p:blipFill>
        <p:spPr>
          <a:xfrm>
            <a:off x="5321160" y="590400"/>
            <a:ext cx="2932200" cy="19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"/>
          <p:cNvPicPr/>
          <p:nvPr/>
        </p:nvPicPr>
        <p:blipFill>
          <a:blip r:embed="rId5"/>
          <a:stretch/>
        </p:blipFill>
        <p:spPr>
          <a:xfrm>
            <a:off x="669960" y="1809720"/>
            <a:ext cx="2658960" cy="19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C:\Users\Лилия Фаргатовна\Desktop\IMG-20210211-WA0067.jpg"/>
          <p:cNvPicPr/>
          <p:nvPr/>
        </p:nvPicPr>
        <p:blipFill>
          <a:blip r:embed="rId6"/>
          <a:stretch/>
        </p:blipFill>
        <p:spPr>
          <a:xfrm>
            <a:off x="2889360" y="1951200"/>
            <a:ext cx="2865240" cy="19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C:\Users\Лилия Фаргатовна\Desktop\IMG-20210205-WA0028.jpg"/>
          <p:cNvPicPr/>
          <p:nvPr/>
        </p:nvPicPr>
        <p:blipFill>
          <a:blip r:embed="rId7"/>
          <a:stretch/>
        </p:blipFill>
        <p:spPr>
          <a:xfrm>
            <a:off x="5535720" y="2023920"/>
            <a:ext cx="2931840" cy="19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8" descr="C:\Users\Лилия Фаргатовна\Desktop\IMG_20210219_093531.jpg"/>
          <p:cNvPicPr/>
          <p:nvPr/>
        </p:nvPicPr>
        <p:blipFill>
          <a:blip r:embed="rId8"/>
          <a:stretch/>
        </p:blipFill>
        <p:spPr>
          <a:xfrm>
            <a:off x="669960" y="3371760"/>
            <a:ext cx="2732040" cy="190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C:\Users\Лилия Фаргатовна\Desktop\IMG_20210219_094627.jpg"/>
          <p:cNvPicPr/>
          <p:nvPr/>
        </p:nvPicPr>
        <p:blipFill>
          <a:blip r:embed="rId9"/>
          <a:stretch/>
        </p:blipFill>
        <p:spPr>
          <a:xfrm>
            <a:off x="3176640" y="3517920"/>
            <a:ext cx="2863800" cy="182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C:\Users\Лилия Фаргатовна\Desktop\IMG-20210219-WA0095.jpg"/>
          <p:cNvPicPr/>
          <p:nvPr/>
        </p:nvPicPr>
        <p:blipFill>
          <a:blip r:embed="rId10"/>
          <a:stretch/>
        </p:blipFill>
        <p:spPr>
          <a:xfrm>
            <a:off x="5821200" y="3517920"/>
            <a:ext cx="28591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6360" y="285480"/>
            <a:ext cx="69930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ТВА ХОРОВ «ПОЮ МОЕ ОТЕЧЕСТВО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7010280" y="1116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FB8D-FB67-48AC-83E9-E7D493C019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42960" y="0"/>
            <a:ext cx="807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БОУ «Лицей 159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000240" y="1143000"/>
            <a:ext cx="350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цее прошла  битва хоров патриотической песни «Пою моё Отечество».  Именно такие конкурсы  воспитывают  чувства патриотизма и любви к своему Отечеству на примере песен о Родине, формируют  у воспитанников осознанное отношение к своей Родине, чувство национального самосознания и гордости за свою Род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935760" y="1351080"/>
            <a:ext cx="13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"/>
          <p:cNvPicPr/>
          <p:nvPr/>
        </p:nvPicPr>
        <p:blipFill>
          <a:blip r:embed="rId1"/>
          <a:stretch/>
        </p:blipFill>
        <p:spPr>
          <a:xfrm>
            <a:off x="7075440" y="0"/>
            <a:ext cx="2068560" cy="90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1832040" cy="1373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3"/>
          <a:stretch/>
        </p:blipFill>
        <p:spPr>
          <a:xfrm>
            <a:off x="6858000" y="1143000"/>
            <a:ext cx="200016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"/>
          <p:cNvPicPr/>
          <p:nvPr/>
        </p:nvPicPr>
        <p:blipFill>
          <a:blip r:embed="rId4"/>
          <a:stretch/>
        </p:blipFill>
        <p:spPr>
          <a:xfrm>
            <a:off x="785880" y="2928960"/>
            <a:ext cx="192096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/>
          <p:cNvPicPr/>
          <p:nvPr/>
        </p:nvPicPr>
        <p:blipFill>
          <a:blip r:embed="rId5"/>
          <a:stretch/>
        </p:blipFill>
        <p:spPr>
          <a:xfrm>
            <a:off x="6858000" y="3071880"/>
            <a:ext cx="201780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"/>
          <p:cNvPicPr/>
          <p:nvPr/>
        </p:nvPicPr>
        <p:blipFill>
          <a:blip r:embed="rId6"/>
          <a:stretch/>
        </p:blipFill>
        <p:spPr>
          <a:xfrm>
            <a:off x="3429000" y="3286080"/>
            <a:ext cx="2878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3T08:15:21Z</dcterms:created>
  <dc:creator>Ковалева Валерия Юрьевна</dc:creator>
  <dc:description/>
  <dc:language>en-US</dc:language>
  <cp:lastModifiedBy>RH</cp:lastModifiedBy>
  <cp:lastPrinted>2021-02-04T07:26:50Z</cp:lastPrinted>
  <dcterms:modified xsi:type="dcterms:W3CDTF">2021-02-25T14:15:40Z</dcterms:modified>
  <cp:revision>425</cp:revision>
  <dc:subject/>
  <dc:title>Презентация PowerPoint</dc:title>
</cp:coreProperties>
</file>